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FFB-D90C-4A4C-AD8A-753ADF7D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8F5-C182-4407-8366-783BC66E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9D0-ADD2-44E5-BE6B-CCB0CC7E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ECB-8284-468C-A5D3-50C82BBB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B9A9-37E9-436E-85D3-EF85FFC8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2D1-1828-4577-976D-2B66180E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815-13C1-49BD-AD10-ECD651FD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8D7-DD2F-459B-9035-45D9A1BF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187-7DD1-436F-9B30-7AF6258A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C4C-0CEE-4BD0-BCB6-80C63E61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FDD-168F-4B1E-98BB-1E7903A4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3BA-0901-4274-926F-1E3665C1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D888-FBC9-4F3A-916E-FA933A1E6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380880"/>
            <a:ext cx="47098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cience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5181480"/>
            <a:ext cx="8077320" cy="12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 parts of a 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3" name="j0237222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2652840" cy="21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09680" y="457200"/>
            <a:ext cx="4724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All flowers hav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male and femal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ar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380988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rpe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510552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ame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3581280"/>
            <a:ext cx="466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the name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EMA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t of the fl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5181480"/>
            <a:ext cx="451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the name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t of the fl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50867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1968480" cy="1546200"/>
          </a:xfrm>
          <a:prstGeom prst="rect">
            <a:avLst/>
          </a:prstGeom>
          <a:ln w="0">
            <a:noFill/>
          </a:ln>
        </p:spPr>
      </p:pic>
      <p:pic>
        <p:nvPicPr>
          <p:cNvPr id="103" name="j0305499" descr=""/>
          <p:cNvPicPr/>
          <p:nvPr/>
        </p:nvPicPr>
        <p:blipFill>
          <a:blip r:embed="rId2"/>
          <a:stretch/>
        </p:blipFill>
        <p:spPr>
          <a:xfrm>
            <a:off x="7238880" y="1295280"/>
            <a:ext cx="136044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8080" y="457200"/>
            <a:ext cx="72392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ook closely at you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 as we name th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ifferent par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5" name="Eyes-01" descr=""/>
          <p:cNvPicPr/>
          <p:nvPr/>
        </p:nvPicPr>
        <p:blipFill>
          <a:blip r:embed="rId1"/>
          <a:stretch/>
        </p:blipFill>
        <p:spPr>
          <a:xfrm>
            <a:off x="2895480" y="4952880"/>
            <a:ext cx="3429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90720" y="228600"/>
            <a:ext cx="38098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 carpe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5214600" y="56196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female p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flower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5257800" cy="4836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6705720" y="2133720"/>
            <a:ext cx="205740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tigm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781680" y="3581280"/>
            <a:ext cx="17528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tyl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705720" y="5105520"/>
            <a:ext cx="18288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ovar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114800" y="2514600"/>
            <a:ext cx="236232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962520" y="3504960"/>
            <a:ext cx="27432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962520" y="4647960"/>
            <a:ext cx="25905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90720" y="228600"/>
            <a:ext cx="41148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 stame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5490360" y="685800"/>
            <a:ext cx="22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male p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flower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5257800" cy="4836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705720" y="2133720"/>
            <a:ext cx="205740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anth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781680" y="3581280"/>
            <a:ext cx="21337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ilame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705720" y="5105520"/>
            <a:ext cx="18288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olle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876920" y="2666880"/>
            <a:ext cx="167616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647960" y="3809520"/>
            <a:ext cx="20574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285640" y="3123720"/>
            <a:ext cx="4267080" cy="2210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22860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 parts of a 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5" name="flower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029200" cy="4627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5760" y="2057400"/>
            <a:ext cx="14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8240" y="358128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7560" y="502920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v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11960" y="3505320"/>
            <a:ext cx="14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85880" y="4952880"/>
            <a:ext cx="17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l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43280" y="190512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2362320"/>
            <a:ext cx="228600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600200" y="3276360"/>
            <a:ext cx="25909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76520" y="4267080"/>
            <a:ext cx="2514600" cy="1067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333760" y="2286000"/>
            <a:ext cx="19047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943600" y="3200400"/>
            <a:ext cx="12952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5410080" y="4038480"/>
            <a:ext cx="152424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371600" y="380880"/>
            <a:ext cx="6324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raw a detailed diagram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of your 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414720" y="2514600"/>
            <a:ext cx="85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e following parts on your diagra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3352680"/>
            <a:ext cx="2181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 carpe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791320" y="3276720"/>
            <a:ext cx="24382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 stame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1031760" y="4191120"/>
            <a:ext cx="1809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ig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y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6840" y="4191120"/>
            <a:ext cx="2158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la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l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j0236278" descr=""/>
          <p:cNvPicPr/>
          <p:nvPr/>
        </p:nvPicPr>
        <p:blipFill>
          <a:blip r:embed="rId1"/>
          <a:stretch/>
        </p:blipFill>
        <p:spPr>
          <a:xfrm>
            <a:off x="3429000" y="4114800"/>
            <a:ext cx="19810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880" y="609480"/>
            <a:ext cx="8229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have we learnt today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127160" y="217476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320040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know that plants produce flowers which have male and female orga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464832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know that seeds are formed when pollen from the male organ fertilises the female org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82880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can label the parts of a plant and fl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62120" y="228600"/>
            <a:ext cx="4190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Next week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54100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ill also find out that insects pollinate some flowers and discover how this is d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3716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ill find out more about how flowering plants reprodu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j0288857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304776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609480"/>
            <a:ext cx="8229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will we learn today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1127160" y="217476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004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ill learn that plants produce flowers which have male and female orga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93884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ill learn that seeds are formed when pollen from the male organ fertilises the female org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ill learn to label the parts of a plant and fl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609480"/>
            <a:ext cx="83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re are four main parts of a plant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828800"/>
            <a:ext cx="6257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Can you guess what they are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2342160" y="274320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31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0560" y="350532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83920" y="4267080"/>
            <a:ext cx="9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7600" y="502920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. 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15440" y="27432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88160" y="350532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80960" y="426708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5560" y="50292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NA00713_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93396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05280" y="228600"/>
            <a:ext cx="488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 at this pict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21560" y="6019920"/>
            <a:ext cx="70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label the parts of the pl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3809880"/>
            <a:ext cx="1676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roo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00800" y="342900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te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44792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av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400800" y="121932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4572000"/>
            <a:ext cx="144792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876920" y="3809880"/>
            <a:ext cx="1371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2362320"/>
            <a:ext cx="76212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28840" y="17524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root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2" name="NA00713_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04920" y="3657600"/>
            <a:ext cx="1676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roo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4648320"/>
            <a:ext cx="12193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25146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oots absorb water from the so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stem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7" name="NA00713_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28600" y="373392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te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4267080"/>
            <a:ext cx="53352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28600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tem helps to support the pl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leaf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2" name="NA00713_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04920" y="3962520"/>
            <a:ext cx="1676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af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143000" y="3504960"/>
            <a:ext cx="9144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36232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leaves use sunlight to provide the plant with energ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flower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7" name="NA00713_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396252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523880" y="2590560"/>
            <a:ext cx="1143000" cy="144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25146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lower helps the plant to reprodu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33520" y="609480"/>
            <a:ext cx="800100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ook carefully at your flower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ith your partn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NA00488_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402000" cy="3809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" y="2590920"/>
            <a:ext cx="230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es it smell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24480" y="2666880"/>
            <a:ext cx="260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can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E02844_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211120" cy="2095560"/>
          </a:xfrm>
          <a:prstGeom prst="rect">
            <a:avLst/>
          </a:prstGeom>
          <a:ln w="0">
            <a:noFill/>
          </a:ln>
        </p:spPr>
      </p:pic>
      <p:pic>
        <p:nvPicPr>
          <p:cNvPr id="96" name="j0299555" descr=""/>
          <p:cNvPicPr/>
          <p:nvPr/>
        </p:nvPicPr>
        <p:blipFill>
          <a:blip r:embed="rId3"/>
          <a:stretch/>
        </p:blipFill>
        <p:spPr>
          <a:xfrm>
            <a:off x="6248520" y="3809880"/>
            <a:ext cx="23367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6T09:58:16Z</dcterms:created>
  <dc:creator>Tim</dc:creator>
  <dc:description/>
  <dc:language>en-US</dc:language>
  <cp:lastModifiedBy>d f baker</cp:lastModifiedBy>
  <dcterms:modified xsi:type="dcterms:W3CDTF">2002-11-24T13:23:28Z</dcterms:modified>
  <cp:revision>15</cp:revision>
  <dc:subject/>
  <dc:title>PowerPoint Presentation</dc:title>
</cp:coreProperties>
</file>